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4ED-598E-427B-94A5-C3AD0AB1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040-3249-474B-9ACE-2390017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CCD-4F5A-455F-B9C8-CB207774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3B2-99E8-464C-BC86-AD5972B7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728C-3611-478B-8E4B-E20096B7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6AD2-2DA9-4FCD-B6F9-03E2D2CF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DCA-D49F-4A95-99AE-2B67AC5D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CE04-6500-47C7-9773-44BD1C1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20D7-489E-41DD-A05B-38EAAA16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8AD-6355-4F38-8744-C71F26C1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E4BD-3CEE-492A-A112-98E4584B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CA7-F2C1-4BCB-A11F-0D676299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5258-8809-4AED-A11C-B5C63D2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980-832A-47F2-B8B4-176E6C0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9705-BE8B-49DD-B63E-882427E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3371-9598-43BA-92DE-BF6D839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C5BD-FD6A-4A5C-A8D1-F6AD15AD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F8B-9C1E-4F76-B2CD-57D107B8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45B-D756-4EAA-ACE7-9CACB710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70C-E4BD-4F09-A930-BF5E3720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2E5-14CB-4F84-A530-0756976D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6BF-683F-49EF-89DD-98D5501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B6F-BB29-41F9-A801-771F4B3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C47-0AE5-4503-8345-C8EF1725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AB3-893F-4F71-B767-727BB409ED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6132-6201-466D-9628-5726C197D5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www.traktat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Engravers MT"/>
              </a:rPr>
              <a:t>СЛОЖНОЕ  ПРЕДЛ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Выполнила Николаева Ю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учащаяся 9 «а»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Школы № </a:t>
            </a:r>
            <a:r>
              <a:rPr b="1" i="1" lang="en-US" sz="2800" spc="-1" strike="noStrike">
                <a:solidFill>
                  <a:srgbClr val="000000"/>
                </a:solidFill>
                <a:latin typeface="Engravers MT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Ответ на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х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ложносочиненное пред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ложноподчиненное пред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Бессоюзно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Ресурс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ервое предложение (О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оздали из-за сильного дождя) является простым предложением. Второе (Они опоздали, потому что шел сильный дождь)– сложноподчиненны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ыть грамотным – это нелегкая задача. Для этого нужно владеть большим объемом информации (правила, орфограммы, словарные слова, исключения)…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ВИДЫ  СЛОЖНЫХ  ПРЕДЛОЖЕНИЙ (СХЕ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7416720" cy="1152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СЛОЖ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565360"/>
            <a:ext cx="4824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2565360"/>
            <a:ext cx="208908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БЕС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365720"/>
            <a:ext cx="273528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СО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4365720"/>
            <a:ext cx="280836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ПОД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2920" y="1557000"/>
            <a:ext cx="69836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сочиненные предложения   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такие предложения, в котор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ростые предложения могут бы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равноправными по смыслу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вязываются сочинитель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юзами ( и, а, но, однако, зат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П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2705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подчиненное предложение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сложное предлож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стоящее из двух (или боле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частей, одна из которых подчине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другой и связывается с ней пр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мощи подчинительного союз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союзного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Б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Бессоюзные сложные предложения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предложения, состоящие из дв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более частей, связанных меж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бой по смыслу, интонацио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рядком расположения частей и т.д.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но без союз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astellar"/>
                <a:hlinkClick r:id="rId1"/>
              </a:rPr>
              <a:t>http://www.krugosvet.r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traktat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ttp://ru.science.wiki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5:39:46Z</dcterms:created>
  <dc:creator>студент</dc:creator>
  <dc:description/>
  <dc:language>en-US</dc:language>
  <cp:lastModifiedBy>Admin</cp:lastModifiedBy>
  <dcterms:modified xsi:type="dcterms:W3CDTF">2010-05-13T09:43:53Z</dcterms:modified>
  <cp:revision>6</cp:revision>
  <dc:subject/>
  <dc:title>СЛОЖНОЕ  ПРЕДЛОЖЕНИЕ</dc:title>
</cp:coreProperties>
</file>